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1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42976800" cy="1828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474747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000" spc="-1" strike="noStrike">
                <a:solidFill>
                  <a:srgbClr val="474747"/>
                </a:solidFill>
                <a:latin typeface="Arial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474747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-600480" y="685440"/>
            <a:ext cx="805644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296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7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000" spc="-1" strike="noStrike">
                <a:solidFill>
                  <a:srgbClr val="474747"/>
                </a:solidFill>
                <a:latin typeface="Arial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474747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000" spc="-1" strike="noStrike">
                <a:solidFill>
                  <a:srgbClr val="474747"/>
                </a:solidFill>
                <a:latin typeface="Arial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88FB00-8CE9-48DB-B716-F12ED25BF322}" type="slidenum">
              <a:rPr b="0" lang="en-GB" sz="1000" spc="-1" strike="noStrike">
                <a:solidFill>
                  <a:srgbClr val="47474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-600120" y="685800"/>
            <a:ext cx="80582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49560" y="728640"/>
            <a:ext cx="3867768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296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149560" y="4280040"/>
            <a:ext cx="3867768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149560" y="10583280"/>
            <a:ext cx="3867768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49560" y="728640"/>
            <a:ext cx="3867768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296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49560" y="4280040"/>
            <a:ext cx="188744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1968280" y="4280040"/>
            <a:ext cx="188744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149560" y="10583280"/>
            <a:ext cx="188744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21968280" y="10583280"/>
            <a:ext cx="188744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49560" y="728640"/>
            <a:ext cx="3867768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296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149560" y="4280040"/>
            <a:ext cx="124538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5226560" y="4280040"/>
            <a:ext cx="124538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8303560" y="4280040"/>
            <a:ext cx="124538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2149560" y="10583280"/>
            <a:ext cx="124538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15226560" y="10583280"/>
            <a:ext cx="124538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28303560" y="10583280"/>
            <a:ext cx="124538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49560" y="728640"/>
            <a:ext cx="3867768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296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149560" y="4280040"/>
            <a:ext cx="38677680" cy="120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2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700" spc="-1" strike="noStrike">
              <a:solidFill>
                <a:srgbClr val="474747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49560" y="728640"/>
            <a:ext cx="3867768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296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49560" y="4280040"/>
            <a:ext cx="38677680" cy="120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49560" y="728640"/>
            <a:ext cx="3867768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296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49560" y="4280040"/>
            <a:ext cx="18874440" cy="120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1968280" y="4280040"/>
            <a:ext cx="18874440" cy="120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49560" y="728640"/>
            <a:ext cx="3867768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296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2149560" y="728640"/>
            <a:ext cx="38677680" cy="141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7000"/>
              </a:lnSpc>
              <a:spcBef>
                <a:spcPts val="21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700" spc="-1" strike="noStrike">
              <a:solidFill>
                <a:srgbClr val="474747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49560" y="728640"/>
            <a:ext cx="3867768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296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49560" y="4280040"/>
            <a:ext cx="188744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1968280" y="4280040"/>
            <a:ext cx="18874440" cy="120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149560" y="10583280"/>
            <a:ext cx="188744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49560" y="728640"/>
            <a:ext cx="3867768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296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2149560" y="4280040"/>
            <a:ext cx="38677680" cy="120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2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700" spc="-1" strike="noStrike">
              <a:solidFill>
                <a:srgbClr val="474747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49560" y="728640"/>
            <a:ext cx="3867768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296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49560" y="4280040"/>
            <a:ext cx="18874440" cy="120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1968280" y="4280040"/>
            <a:ext cx="188744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1968280" y="10583280"/>
            <a:ext cx="188744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49560" y="728640"/>
            <a:ext cx="3867768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296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149560" y="4280040"/>
            <a:ext cx="188744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1968280" y="4280040"/>
            <a:ext cx="188744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149560" y="10583280"/>
            <a:ext cx="3867768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49560" y="728640"/>
            <a:ext cx="3867768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296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149560" y="4280040"/>
            <a:ext cx="3867768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149560" y="10583280"/>
            <a:ext cx="3867768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49560" y="728640"/>
            <a:ext cx="3867768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296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149560" y="4280040"/>
            <a:ext cx="188744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1968280" y="4280040"/>
            <a:ext cx="188744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149560" y="10583280"/>
            <a:ext cx="188744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1968280" y="10583280"/>
            <a:ext cx="188744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49560" y="728640"/>
            <a:ext cx="3867768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296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49560" y="4280040"/>
            <a:ext cx="124538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5226560" y="4280040"/>
            <a:ext cx="124538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8303560" y="4280040"/>
            <a:ext cx="124538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2149560" y="10583280"/>
            <a:ext cx="124538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15226560" y="10583280"/>
            <a:ext cx="124538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28303560" y="10583280"/>
            <a:ext cx="124538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49560" y="728640"/>
            <a:ext cx="3867768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296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149560" y="4280040"/>
            <a:ext cx="38677680" cy="120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49560" y="728640"/>
            <a:ext cx="3867768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296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49560" y="4280040"/>
            <a:ext cx="18874440" cy="120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1968280" y="4280040"/>
            <a:ext cx="18874440" cy="120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49560" y="728640"/>
            <a:ext cx="3867768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296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2149560" y="728640"/>
            <a:ext cx="38677680" cy="141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7000"/>
              </a:lnSpc>
              <a:spcBef>
                <a:spcPts val="21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700" spc="-1" strike="noStrike">
              <a:solidFill>
                <a:srgbClr val="47474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49560" y="728640"/>
            <a:ext cx="3867768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296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49560" y="4280040"/>
            <a:ext cx="188744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1968280" y="4280040"/>
            <a:ext cx="18874440" cy="120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149560" y="10583280"/>
            <a:ext cx="188744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149560" y="728640"/>
            <a:ext cx="3867768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296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149560" y="4280040"/>
            <a:ext cx="18874440" cy="120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1968280" y="4280040"/>
            <a:ext cx="188744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1968280" y="10583280"/>
            <a:ext cx="188744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49560" y="728640"/>
            <a:ext cx="3867768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296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149560" y="4280040"/>
            <a:ext cx="188744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21968280" y="4280040"/>
            <a:ext cx="1887444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2149560" y="10583280"/>
            <a:ext cx="38677680" cy="57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37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68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33520" y="453960"/>
            <a:ext cx="5680080" cy="887400"/>
            <a:chOff x="533520" y="453960"/>
            <a:chExt cx="5680080" cy="887400"/>
          </a:xfrm>
        </p:grpSpPr>
        <p:sp>
          <p:nvSpPr>
            <p:cNvPr id="1" name=""/>
            <p:cNvSpPr/>
            <p:nvPr/>
          </p:nvSpPr>
          <p:spPr>
            <a:xfrm>
              <a:off x="533520" y="453960"/>
              <a:ext cx="887400" cy="417600"/>
            </a:xfrm>
            <a:custGeom>
              <a:avLst/>
              <a:gdLst/>
              <a:ahLst/>
              <a:rect l="l" t="t" r="r" b="b"/>
              <a:pathLst>
                <a:path w="204" h="96">
                  <a:moveTo>
                    <a:pt x="158" y="61"/>
                  </a:moveTo>
                  <a:cubicBezTo>
                    <a:pt x="158" y="96"/>
                    <a:pt x="158" y="96"/>
                    <a:pt x="158" y="96"/>
                  </a:cubicBezTo>
                  <a:cubicBezTo>
                    <a:pt x="189" y="96"/>
                    <a:pt x="189" y="96"/>
                    <a:pt x="189" y="96"/>
                  </a:cubicBezTo>
                  <a:cubicBezTo>
                    <a:pt x="197" y="96"/>
                    <a:pt x="204" y="90"/>
                    <a:pt x="204" y="81"/>
                  </a:cubicBezTo>
                  <a:cubicBezTo>
                    <a:pt x="204" y="15"/>
                    <a:pt x="204" y="15"/>
                    <a:pt x="204" y="15"/>
                  </a:cubicBezTo>
                  <a:cubicBezTo>
                    <a:pt x="204" y="7"/>
                    <a:pt x="197" y="0"/>
                    <a:pt x="189" y="0"/>
                  </a:cubicBezTo>
                  <a:cubicBezTo>
                    <a:pt x="123" y="0"/>
                    <a:pt x="123" y="0"/>
                    <a:pt x="123" y="0"/>
                  </a:cubicBezTo>
                  <a:cubicBezTo>
                    <a:pt x="115" y="0"/>
                    <a:pt x="108" y="7"/>
                    <a:pt x="108" y="15"/>
                  </a:cubicBezTo>
                  <a:cubicBezTo>
                    <a:pt x="108" y="46"/>
                    <a:pt x="108" y="46"/>
                    <a:pt x="108" y="46"/>
                  </a:cubicBezTo>
                  <a:cubicBezTo>
                    <a:pt x="143" y="46"/>
                    <a:pt x="143" y="46"/>
                    <a:pt x="143" y="46"/>
                  </a:cubicBezTo>
                  <a:cubicBezTo>
                    <a:pt x="151" y="46"/>
                    <a:pt x="158" y="53"/>
                    <a:pt x="158" y="61"/>
                  </a:cubicBezTo>
                  <a:moveTo>
                    <a:pt x="46" y="61"/>
                  </a:moveTo>
                  <a:cubicBezTo>
                    <a:pt x="46" y="96"/>
                    <a:pt x="46" y="96"/>
                    <a:pt x="46" y="96"/>
                  </a:cubicBezTo>
                  <a:cubicBezTo>
                    <a:pt x="15" y="96"/>
                    <a:pt x="15" y="96"/>
                    <a:pt x="15" y="96"/>
                  </a:cubicBezTo>
                  <a:cubicBezTo>
                    <a:pt x="7" y="96"/>
                    <a:pt x="0" y="90"/>
                    <a:pt x="0" y="81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7"/>
                    <a:pt x="7" y="0"/>
                    <a:pt x="15" y="0"/>
                  </a:cubicBezTo>
                  <a:cubicBezTo>
                    <a:pt x="81" y="0"/>
                    <a:pt x="81" y="0"/>
                    <a:pt x="81" y="0"/>
                  </a:cubicBezTo>
                  <a:cubicBezTo>
                    <a:pt x="89" y="0"/>
                    <a:pt x="96" y="7"/>
                    <a:pt x="96" y="15"/>
                  </a:cubicBezTo>
                  <a:cubicBezTo>
                    <a:pt x="96" y="46"/>
                    <a:pt x="96" y="46"/>
                    <a:pt x="96" y="46"/>
                  </a:cubicBezTo>
                  <a:cubicBezTo>
                    <a:pt x="61" y="46"/>
                    <a:pt x="61" y="46"/>
                    <a:pt x="61" y="46"/>
                  </a:cubicBezTo>
                  <a:cubicBezTo>
                    <a:pt x="53" y="46"/>
                    <a:pt x="46" y="53"/>
                    <a:pt x="46" y="6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33520" y="923760"/>
              <a:ext cx="887400" cy="417600"/>
            </a:xfrm>
            <a:custGeom>
              <a:avLst/>
              <a:gdLst/>
              <a:ahLst/>
              <a:rect l="l" t="t" r="r" b="b"/>
              <a:pathLst>
                <a:path w="204" h="96">
                  <a:moveTo>
                    <a:pt x="46" y="35"/>
                  </a:moveTo>
                  <a:cubicBezTo>
                    <a:pt x="46" y="0"/>
                    <a:pt x="46" y="0"/>
                    <a:pt x="46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7" y="0"/>
                    <a:pt x="0" y="7"/>
                    <a:pt x="0" y="15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90"/>
                    <a:pt x="7" y="96"/>
                    <a:pt x="15" y="96"/>
                  </a:cubicBezTo>
                  <a:cubicBezTo>
                    <a:pt x="81" y="96"/>
                    <a:pt x="81" y="96"/>
                    <a:pt x="81" y="96"/>
                  </a:cubicBezTo>
                  <a:cubicBezTo>
                    <a:pt x="89" y="96"/>
                    <a:pt x="96" y="90"/>
                    <a:pt x="96" y="81"/>
                  </a:cubicBezTo>
                  <a:cubicBezTo>
                    <a:pt x="96" y="50"/>
                    <a:pt x="96" y="50"/>
                    <a:pt x="96" y="50"/>
                  </a:cubicBezTo>
                  <a:cubicBezTo>
                    <a:pt x="61" y="50"/>
                    <a:pt x="61" y="50"/>
                    <a:pt x="61" y="50"/>
                  </a:cubicBezTo>
                  <a:cubicBezTo>
                    <a:pt x="53" y="50"/>
                    <a:pt x="46" y="44"/>
                    <a:pt x="46" y="35"/>
                  </a:cubicBezTo>
                  <a:moveTo>
                    <a:pt x="158" y="35"/>
                  </a:moveTo>
                  <a:cubicBezTo>
                    <a:pt x="158" y="0"/>
                    <a:pt x="158" y="0"/>
                    <a:pt x="158" y="0"/>
                  </a:cubicBezTo>
                  <a:cubicBezTo>
                    <a:pt x="189" y="0"/>
                    <a:pt x="189" y="0"/>
                    <a:pt x="189" y="0"/>
                  </a:cubicBezTo>
                  <a:cubicBezTo>
                    <a:pt x="197" y="0"/>
                    <a:pt x="204" y="7"/>
                    <a:pt x="204" y="15"/>
                  </a:cubicBezTo>
                  <a:cubicBezTo>
                    <a:pt x="204" y="81"/>
                    <a:pt x="204" y="81"/>
                    <a:pt x="204" y="81"/>
                  </a:cubicBezTo>
                  <a:cubicBezTo>
                    <a:pt x="204" y="90"/>
                    <a:pt x="197" y="96"/>
                    <a:pt x="189" y="96"/>
                  </a:cubicBezTo>
                  <a:cubicBezTo>
                    <a:pt x="123" y="96"/>
                    <a:pt x="123" y="96"/>
                    <a:pt x="123" y="96"/>
                  </a:cubicBezTo>
                  <a:cubicBezTo>
                    <a:pt x="115" y="96"/>
                    <a:pt x="108" y="90"/>
                    <a:pt x="108" y="81"/>
                  </a:cubicBezTo>
                  <a:cubicBezTo>
                    <a:pt x="108" y="50"/>
                    <a:pt x="108" y="50"/>
                    <a:pt x="108" y="50"/>
                  </a:cubicBezTo>
                  <a:cubicBezTo>
                    <a:pt x="143" y="50"/>
                    <a:pt x="143" y="50"/>
                    <a:pt x="143" y="50"/>
                  </a:cubicBezTo>
                  <a:cubicBezTo>
                    <a:pt x="151" y="50"/>
                    <a:pt x="158" y="44"/>
                    <a:pt x="158" y="3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963880" y="1123920"/>
              <a:ext cx="1440" cy="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619280" y="650880"/>
              <a:ext cx="384120" cy="498600"/>
            </a:xfrm>
            <a:custGeom>
              <a:avLst/>
              <a:gdLst/>
              <a:ahLst/>
              <a:rect l="l" t="t" r="r" b="b"/>
              <a:pathLst>
                <a:path w="88" h="115">
                  <a:moveTo>
                    <a:pt x="88" y="78"/>
                  </a:moveTo>
                  <a:cubicBezTo>
                    <a:pt x="84" y="101"/>
                    <a:pt x="69" y="115"/>
                    <a:pt x="46" y="115"/>
                  </a:cubicBezTo>
                  <a:cubicBezTo>
                    <a:pt x="14" y="115"/>
                    <a:pt x="0" y="86"/>
                    <a:pt x="0" y="57"/>
                  </a:cubicBezTo>
                  <a:cubicBezTo>
                    <a:pt x="0" y="29"/>
                    <a:pt x="14" y="0"/>
                    <a:pt x="46" y="0"/>
                  </a:cubicBezTo>
                  <a:cubicBezTo>
                    <a:pt x="69" y="0"/>
                    <a:pt x="84" y="13"/>
                    <a:pt x="88" y="37"/>
                  </a:cubicBezTo>
                  <a:cubicBezTo>
                    <a:pt x="67" y="39"/>
                    <a:pt x="67" y="39"/>
                    <a:pt x="67" y="39"/>
                  </a:cubicBezTo>
                  <a:cubicBezTo>
                    <a:pt x="64" y="28"/>
                    <a:pt x="59" y="17"/>
                    <a:pt x="46" y="17"/>
                  </a:cubicBezTo>
                  <a:cubicBezTo>
                    <a:pt x="27" y="17"/>
                    <a:pt x="23" y="43"/>
                    <a:pt x="23" y="57"/>
                  </a:cubicBezTo>
                  <a:cubicBezTo>
                    <a:pt x="23" y="72"/>
                    <a:pt x="27" y="97"/>
                    <a:pt x="46" y="97"/>
                  </a:cubicBezTo>
                  <a:cubicBezTo>
                    <a:pt x="59" y="97"/>
                    <a:pt x="64" y="87"/>
                    <a:pt x="67" y="75"/>
                  </a:cubicBezTo>
                  <a:lnTo>
                    <a:pt x="88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058840" y="654120"/>
              <a:ext cx="92160" cy="487440"/>
            </a:xfrm>
            <a:custGeom>
              <a:avLst/>
              <a:gdLst/>
              <a:ahLst/>
              <a:rect l="l" t="t" r="r" b="b"/>
              <a:pathLst>
                <a:path w="50" h="265">
                  <a:moveTo>
                    <a:pt x="50" y="265"/>
                  </a:moveTo>
                  <a:lnTo>
                    <a:pt x="0" y="265"/>
                  </a:lnTo>
                  <a:lnTo>
                    <a:pt x="0" y="0"/>
                  </a:lnTo>
                  <a:lnTo>
                    <a:pt x="50" y="0"/>
                  </a:lnTo>
                  <a:lnTo>
                    <a:pt x="50" y="265"/>
                  </a:lnTo>
                  <a:lnTo>
                    <a:pt x="50" y="2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206800" y="785880"/>
              <a:ext cx="309240" cy="36504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50" y="34"/>
                  </a:moveTo>
                  <a:cubicBezTo>
                    <a:pt x="50" y="25"/>
                    <a:pt x="46" y="16"/>
                    <a:pt x="36" y="16"/>
                  </a:cubicBezTo>
                  <a:cubicBezTo>
                    <a:pt x="26" y="16"/>
                    <a:pt x="22" y="25"/>
                    <a:pt x="22" y="34"/>
                  </a:cubicBezTo>
                  <a:lnTo>
                    <a:pt x="50" y="34"/>
                  </a:lnTo>
                  <a:close/>
                  <a:moveTo>
                    <a:pt x="21" y="47"/>
                  </a:moveTo>
                  <a:cubicBezTo>
                    <a:pt x="21" y="57"/>
                    <a:pt x="26" y="68"/>
                    <a:pt x="37" y="68"/>
                  </a:cubicBezTo>
                  <a:cubicBezTo>
                    <a:pt x="44" y="68"/>
                    <a:pt x="48" y="64"/>
                    <a:pt x="51" y="57"/>
                  </a:cubicBezTo>
                  <a:cubicBezTo>
                    <a:pt x="71" y="59"/>
                    <a:pt x="71" y="59"/>
                    <a:pt x="71" y="59"/>
                  </a:cubicBezTo>
                  <a:cubicBezTo>
                    <a:pt x="66" y="75"/>
                    <a:pt x="51" y="84"/>
                    <a:pt x="35" y="84"/>
                  </a:cubicBezTo>
                  <a:cubicBezTo>
                    <a:pt x="12" y="84"/>
                    <a:pt x="0" y="63"/>
                    <a:pt x="0" y="42"/>
                  </a:cubicBezTo>
                  <a:cubicBezTo>
                    <a:pt x="0" y="21"/>
                    <a:pt x="12" y="0"/>
                    <a:pt x="35" y="0"/>
                  </a:cubicBezTo>
                  <a:cubicBezTo>
                    <a:pt x="56" y="0"/>
                    <a:pt x="71" y="10"/>
                    <a:pt x="71" y="47"/>
                  </a:cubicBezTo>
                  <a:lnTo>
                    <a:pt x="21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867040" y="785880"/>
              <a:ext cx="309600" cy="36504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49" y="34"/>
                  </a:moveTo>
                  <a:cubicBezTo>
                    <a:pt x="49" y="25"/>
                    <a:pt x="46" y="16"/>
                    <a:pt x="36" y="16"/>
                  </a:cubicBezTo>
                  <a:cubicBezTo>
                    <a:pt x="26" y="16"/>
                    <a:pt x="22" y="25"/>
                    <a:pt x="22" y="34"/>
                  </a:cubicBezTo>
                  <a:lnTo>
                    <a:pt x="49" y="34"/>
                  </a:lnTo>
                  <a:close/>
                  <a:moveTo>
                    <a:pt x="21" y="47"/>
                  </a:moveTo>
                  <a:cubicBezTo>
                    <a:pt x="20" y="57"/>
                    <a:pt x="26" y="68"/>
                    <a:pt x="37" y="68"/>
                  </a:cubicBezTo>
                  <a:cubicBezTo>
                    <a:pt x="44" y="68"/>
                    <a:pt x="48" y="64"/>
                    <a:pt x="50" y="57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66" y="75"/>
                    <a:pt x="50" y="84"/>
                    <a:pt x="35" y="84"/>
                  </a:cubicBezTo>
                  <a:cubicBezTo>
                    <a:pt x="11" y="84"/>
                    <a:pt x="0" y="63"/>
                    <a:pt x="0" y="42"/>
                  </a:cubicBezTo>
                  <a:cubicBezTo>
                    <a:pt x="0" y="21"/>
                    <a:pt x="11" y="0"/>
                    <a:pt x="35" y="0"/>
                  </a:cubicBezTo>
                  <a:cubicBezTo>
                    <a:pt x="55" y="0"/>
                    <a:pt x="71" y="10"/>
                    <a:pt x="70" y="47"/>
                  </a:cubicBezTo>
                  <a:lnTo>
                    <a:pt x="21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538360" y="793800"/>
              <a:ext cx="312840" cy="347760"/>
            </a:xfrm>
            <a:custGeom>
              <a:avLst/>
              <a:gdLst/>
              <a:ahLst/>
              <a:rect l="l" t="t" r="r" b="b"/>
              <a:pathLst>
                <a:path w="170" h="189">
                  <a:moveTo>
                    <a:pt x="113" y="189"/>
                  </a:moveTo>
                  <a:lnTo>
                    <a:pt x="59" y="189"/>
                  </a:lnTo>
                  <a:lnTo>
                    <a:pt x="0" y="0"/>
                  </a:lnTo>
                  <a:lnTo>
                    <a:pt x="52" y="0"/>
                  </a:lnTo>
                  <a:lnTo>
                    <a:pt x="85" y="139"/>
                  </a:lnTo>
                  <a:lnTo>
                    <a:pt x="87" y="139"/>
                  </a:lnTo>
                  <a:lnTo>
                    <a:pt x="120" y="0"/>
                  </a:lnTo>
                  <a:lnTo>
                    <a:pt x="170" y="0"/>
                  </a:lnTo>
                  <a:lnTo>
                    <a:pt x="113" y="189"/>
                  </a:lnTo>
                  <a:lnTo>
                    <a:pt x="113" y="1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238560" y="654120"/>
              <a:ext cx="92160" cy="487440"/>
            </a:xfrm>
            <a:custGeom>
              <a:avLst/>
              <a:gdLst/>
              <a:ahLst/>
              <a:rect l="l" t="t" r="r" b="b"/>
              <a:pathLst>
                <a:path w="50" h="265">
                  <a:moveTo>
                    <a:pt x="50" y="265"/>
                  </a:moveTo>
                  <a:lnTo>
                    <a:pt x="0" y="265"/>
                  </a:lnTo>
                  <a:lnTo>
                    <a:pt x="0" y="0"/>
                  </a:lnTo>
                  <a:lnTo>
                    <a:pt x="50" y="0"/>
                  </a:lnTo>
                  <a:lnTo>
                    <a:pt x="50" y="265"/>
                  </a:lnTo>
                  <a:lnTo>
                    <a:pt x="50" y="2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381480" y="785880"/>
              <a:ext cx="312480" cy="365040"/>
            </a:xfrm>
            <a:custGeom>
              <a:avLst/>
              <a:gdLst/>
              <a:ahLst/>
              <a:rect l="l" t="t" r="r" b="b"/>
              <a:pathLst>
                <a:path w="72" h="84">
                  <a:moveTo>
                    <a:pt x="48" y="45"/>
                  </a:moveTo>
                  <a:cubicBezTo>
                    <a:pt x="39" y="47"/>
                    <a:pt x="21" y="48"/>
                    <a:pt x="21" y="60"/>
                  </a:cubicBezTo>
                  <a:cubicBezTo>
                    <a:pt x="21" y="64"/>
                    <a:pt x="24" y="68"/>
                    <a:pt x="29" y="68"/>
                  </a:cubicBezTo>
                  <a:cubicBezTo>
                    <a:pt x="37" y="68"/>
                    <a:pt x="43" y="63"/>
                    <a:pt x="48" y="58"/>
                  </a:cubicBezTo>
                  <a:lnTo>
                    <a:pt x="48" y="45"/>
                  </a:lnTo>
                  <a:close/>
                  <a:moveTo>
                    <a:pt x="49" y="75"/>
                  </a:moveTo>
                  <a:cubicBezTo>
                    <a:pt x="41" y="81"/>
                    <a:pt x="36" y="84"/>
                    <a:pt x="26" y="84"/>
                  </a:cubicBezTo>
                  <a:cubicBezTo>
                    <a:pt x="12" y="84"/>
                    <a:pt x="0" y="75"/>
                    <a:pt x="0" y="60"/>
                  </a:cubicBezTo>
                  <a:cubicBezTo>
                    <a:pt x="0" y="37"/>
                    <a:pt x="30" y="33"/>
                    <a:pt x="48" y="31"/>
                  </a:cubicBezTo>
                  <a:cubicBezTo>
                    <a:pt x="49" y="20"/>
                    <a:pt x="45" y="16"/>
                    <a:pt x="37" y="16"/>
                  </a:cubicBezTo>
                  <a:cubicBezTo>
                    <a:pt x="31" y="16"/>
                    <a:pt x="26" y="19"/>
                    <a:pt x="24" y="26"/>
                  </a:cubicBezTo>
                  <a:cubicBezTo>
                    <a:pt x="4" y="23"/>
                    <a:pt x="4" y="23"/>
                    <a:pt x="4" y="23"/>
                  </a:cubicBezTo>
                  <a:cubicBezTo>
                    <a:pt x="9" y="5"/>
                    <a:pt x="20" y="0"/>
                    <a:pt x="37" y="0"/>
                  </a:cubicBezTo>
                  <a:cubicBezTo>
                    <a:pt x="59" y="0"/>
                    <a:pt x="69" y="10"/>
                    <a:pt x="69" y="25"/>
                  </a:cubicBezTo>
                  <a:cubicBezTo>
                    <a:pt x="69" y="65"/>
                    <a:pt x="69" y="65"/>
                    <a:pt x="69" y="65"/>
                  </a:cubicBezTo>
                  <a:cubicBezTo>
                    <a:pt x="69" y="71"/>
                    <a:pt x="69" y="77"/>
                    <a:pt x="72" y="82"/>
                  </a:cubicBezTo>
                  <a:cubicBezTo>
                    <a:pt x="51" y="82"/>
                    <a:pt x="51" y="82"/>
                    <a:pt x="51" y="82"/>
                  </a:cubicBezTo>
                  <a:cubicBezTo>
                    <a:pt x="49" y="79"/>
                    <a:pt x="49" y="75"/>
                    <a:pt x="49" y="7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755880" y="785880"/>
              <a:ext cx="290520" cy="357120"/>
            </a:xfrm>
            <a:custGeom>
              <a:avLst/>
              <a:gdLst/>
              <a:ahLst/>
              <a:rect l="l" t="t" r="r" b="b"/>
              <a:pathLst>
                <a:path w="67" h="82">
                  <a:moveTo>
                    <a:pt x="21" y="10"/>
                  </a:moveTo>
                  <a:cubicBezTo>
                    <a:pt x="28" y="4"/>
                    <a:pt x="36" y="0"/>
                    <a:pt x="45" y="0"/>
                  </a:cubicBezTo>
                  <a:cubicBezTo>
                    <a:pt x="54" y="0"/>
                    <a:pt x="67" y="5"/>
                    <a:pt x="67" y="25"/>
                  </a:cubicBezTo>
                  <a:cubicBezTo>
                    <a:pt x="67" y="82"/>
                    <a:pt x="67" y="82"/>
                    <a:pt x="67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34"/>
                    <a:pt x="45" y="34"/>
                    <a:pt x="45" y="34"/>
                  </a:cubicBezTo>
                  <a:cubicBezTo>
                    <a:pt x="45" y="27"/>
                    <a:pt x="46" y="17"/>
                    <a:pt x="36" y="17"/>
                  </a:cubicBezTo>
                  <a:cubicBezTo>
                    <a:pt x="30" y="17"/>
                    <a:pt x="25" y="22"/>
                    <a:pt x="21" y="26"/>
                  </a:cubicBezTo>
                  <a:cubicBezTo>
                    <a:pt x="21" y="82"/>
                    <a:pt x="21" y="82"/>
                    <a:pt x="21" y="82"/>
                  </a:cubicBezTo>
                  <a:cubicBezTo>
                    <a:pt x="0" y="82"/>
                    <a:pt x="0" y="82"/>
                    <a:pt x="0" y="8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21" y="2"/>
                    <a:pt x="21" y="2"/>
                    <a:pt x="21" y="2"/>
                  </a:cubicBezTo>
                  <a:lnTo>
                    <a:pt x="21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616280" y="650880"/>
              <a:ext cx="384480" cy="498600"/>
            </a:xfrm>
            <a:custGeom>
              <a:avLst/>
              <a:gdLst/>
              <a:ahLst/>
              <a:rect l="l" t="t" r="r" b="b"/>
              <a:pathLst>
                <a:path w="88" h="115">
                  <a:moveTo>
                    <a:pt x="88" y="78"/>
                  </a:moveTo>
                  <a:cubicBezTo>
                    <a:pt x="85" y="101"/>
                    <a:pt x="69" y="115"/>
                    <a:pt x="46" y="115"/>
                  </a:cubicBezTo>
                  <a:cubicBezTo>
                    <a:pt x="14" y="115"/>
                    <a:pt x="0" y="86"/>
                    <a:pt x="0" y="57"/>
                  </a:cubicBezTo>
                  <a:cubicBezTo>
                    <a:pt x="0" y="29"/>
                    <a:pt x="14" y="0"/>
                    <a:pt x="46" y="0"/>
                  </a:cubicBezTo>
                  <a:cubicBezTo>
                    <a:pt x="69" y="0"/>
                    <a:pt x="85" y="13"/>
                    <a:pt x="88" y="37"/>
                  </a:cubicBezTo>
                  <a:cubicBezTo>
                    <a:pt x="67" y="39"/>
                    <a:pt x="67" y="39"/>
                    <a:pt x="67" y="39"/>
                  </a:cubicBezTo>
                  <a:cubicBezTo>
                    <a:pt x="65" y="28"/>
                    <a:pt x="60" y="17"/>
                    <a:pt x="46" y="17"/>
                  </a:cubicBezTo>
                  <a:cubicBezTo>
                    <a:pt x="27" y="17"/>
                    <a:pt x="23" y="43"/>
                    <a:pt x="23" y="57"/>
                  </a:cubicBezTo>
                  <a:cubicBezTo>
                    <a:pt x="23" y="72"/>
                    <a:pt x="27" y="97"/>
                    <a:pt x="46" y="97"/>
                  </a:cubicBezTo>
                  <a:cubicBezTo>
                    <a:pt x="60" y="97"/>
                    <a:pt x="65" y="87"/>
                    <a:pt x="67" y="75"/>
                  </a:cubicBezTo>
                  <a:lnTo>
                    <a:pt x="88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54760" y="654120"/>
              <a:ext cx="95040" cy="487440"/>
            </a:xfrm>
            <a:custGeom>
              <a:avLst/>
              <a:gdLst/>
              <a:ahLst/>
              <a:rect l="l" t="t" r="r" b="b"/>
              <a:pathLst>
                <a:path w="52" h="265">
                  <a:moveTo>
                    <a:pt x="52" y="265"/>
                  </a:moveTo>
                  <a:lnTo>
                    <a:pt x="0" y="265"/>
                  </a:lnTo>
                  <a:lnTo>
                    <a:pt x="0" y="0"/>
                  </a:lnTo>
                  <a:lnTo>
                    <a:pt x="52" y="0"/>
                  </a:lnTo>
                  <a:lnTo>
                    <a:pt x="52" y="265"/>
                  </a:lnTo>
                  <a:lnTo>
                    <a:pt x="52" y="2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226120" y="654120"/>
              <a:ext cx="95040" cy="487440"/>
            </a:xfrm>
            <a:custGeom>
              <a:avLst/>
              <a:gdLst/>
              <a:ahLst/>
              <a:rect l="l" t="t" r="r" b="b"/>
              <a:pathLst>
                <a:path w="52" h="265">
                  <a:moveTo>
                    <a:pt x="52" y="265"/>
                  </a:moveTo>
                  <a:lnTo>
                    <a:pt x="0" y="265"/>
                  </a:lnTo>
                  <a:lnTo>
                    <a:pt x="0" y="76"/>
                  </a:lnTo>
                  <a:lnTo>
                    <a:pt x="52" y="76"/>
                  </a:lnTo>
                  <a:lnTo>
                    <a:pt x="52" y="265"/>
                  </a:lnTo>
                  <a:lnTo>
                    <a:pt x="52" y="265"/>
                  </a:lnTo>
                  <a:close/>
                  <a:moveTo>
                    <a:pt x="52" y="47"/>
                  </a:moveTo>
                  <a:lnTo>
                    <a:pt x="0" y="47"/>
                  </a:lnTo>
                  <a:lnTo>
                    <a:pt x="0" y="0"/>
                  </a:lnTo>
                  <a:lnTo>
                    <a:pt x="52" y="0"/>
                  </a:lnTo>
                  <a:lnTo>
                    <a:pt x="52" y="47"/>
                  </a:lnTo>
                  <a:lnTo>
                    <a:pt x="52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396040" y="785880"/>
              <a:ext cx="290520" cy="357120"/>
            </a:xfrm>
            <a:custGeom>
              <a:avLst/>
              <a:gdLst/>
              <a:ahLst/>
              <a:rect l="l" t="t" r="r" b="b"/>
              <a:pathLst>
                <a:path w="67" h="82">
                  <a:moveTo>
                    <a:pt x="21" y="10"/>
                  </a:moveTo>
                  <a:cubicBezTo>
                    <a:pt x="28" y="4"/>
                    <a:pt x="36" y="0"/>
                    <a:pt x="45" y="0"/>
                  </a:cubicBezTo>
                  <a:cubicBezTo>
                    <a:pt x="54" y="0"/>
                    <a:pt x="67" y="5"/>
                    <a:pt x="67" y="25"/>
                  </a:cubicBezTo>
                  <a:cubicBezTo>
                    <a:pt x="67" y="82"/>
                    <a:pt x="67" y="82"/>
                    <a:pt x="67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34"/>
                    <a:pt x="45" y="34"/>
                    <a:pt x="45" y="34"/>
                  </a:cubicBezTo>
                  <a:cubicBezTo>
                    <a:pt x="45" y="27"/>
                    <a:pt x="46" y="17"/>
                    <a:pt x="36" y="17"/>
                  </a:cubicBezTo>
                  <a:cubicBezTo>
                    <a:pt x="30" y="17"/>
                    <a:pt x="25" y="22"/>
                    <a:pt x="21" y="26"/>
                  </a:cubicBezTo>
                  <a:cubicBezTo>
                    <a:pt x="21" y="82"/>
                    <a:pt x="21" y="82"/>
                    <a:pt x="21" y="82"/>
                  </a:cubicBezTo>
                  <a:cubicBezTo>
                    <a:pt x="0" y="82"/>
                    <a:pt x="0" y="82"/>
                    <a:pt x="0" y="8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21" y="2"/>
                    <a:pt x="21" y="2"/>
                    <a:pt x="21" y="2"/>
                  </a:cubicBezTo>
                  <a:lnTo>
                    <a:pt x="21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761080" y="654120"/>
              <a:ext cx="92160" cy="487440"/>
            </a:xfrm>
            <a:custGeom>
              <a:avLst/>
              <a:gdLst/>
              <a:ahLst/>
              <a:rect l="l" t="t" r="r" b="b"/>
              <a:pathLst>
                <a:path w="50" h="265">
                  <a:moveTo>
                    <a:pt x="50" y="265"/>
                  </a:moveTo>
                  <a:lnTo>
                    <a:pt x="0" y="265"/>
                  </a:lnTo>
                  <a:lnTo>
                    <a:pt x="0" y="76"/>
                  </a:lnTo>
                  <a:lnTo>
                    <a:pt x="50" y="76"/>
                  </a:lnTo>
                  <a:lnTo>
                    <a:pt x="50" y="265"/>
                  </a:lnTo>
                  <a:lnTo>
                    <a:pt x="50" y="265"/>
                  </a:lnTo>
                  <a:close/>
                  <a:moveTo>
                    <a:pt x="50" y="47"/>
                  </a:moveTo>
                  <a:lnTo>
                    <a:pt x="0" y="47"/>
                  </a:lnTo>
                  <a:lnTo>
                    <a:pt x="0" y="0"/>
                  </a:lnTo>
                  <a:lnTo>
                    <a:pt x="50" y="0"/>
                  </a:lnTo>
                  <a:lnTo>
                    <a:pt x="50" y="47"/>
                  </a:lnTo>
                  <a:lnTo>
                    <a:pt x="50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913360" y="785880"/>
              <a:ext cx="300240" cy="365040"/>
            </a:xfrm>
            <a:custGeom>
              <a:avLst/>
              <a:gdLst/>
              <a:ahLst/>
              <a:rect l="l" t="t" r="r" b="b"/>
              <a:pathLst>
                <a:path w="69" h="84">
                  <a:moveTo>
                    <a:pt x="69" y="56"/>
                  </a:moveTo>
                  <a:cubicBezTo>
                    <a:pt x="65" y="73"/>
                    <a:pt x="53" y="84"/>
                    <a:pt x="35" y="84"/>
                  </a:cubicBezTo>
                  <a:cubicBezTo>
                    <a:pt x="12" y="84"/>
                    <a:pt x="0" y="63"/>
                    <a:pt x="0" y="42"/>
                  </a:cubicBezTo>
                  <a:cubicBezTo>
                    <a:pt x="0" y="21"/>
                    <a:pt x="11" y="0"/>
                    <a:pt x="35" y="0"/>
                  </a:cubicBezTo>
                  <a:cubicBezTo>
                    <a:pt x="53" y="0"/>
                    <a:pt x="65" y="11"/>
                    <a:pt x="69" y="28"/>
                  </a:cubicBezTo>
                  <a:cubicBezTo>
                    <a:pt x="49" y="30"/>
                    <a:pt x="49" y="30"/>
                    <a:pt x="49" y="30"/>
                  </a:cubicBezTo>
                  <a:cubicBezTo>
                    <a:pt x="48" y="24"/>
                    <a:pt x="46" y="16"/>
                    <a:pt x="35" y="16"/>
                  </a:cubicBezTo>
                  <a:cubicBezTo>
                    <a:pt x="23" y="16"/>
                    <a:pt x="21" y="32"/>
                    <a:pt x="21" y="42"/>
                  </a:cubicBezTo>
                  <a:cubicBezTo>
                    <a:pt x="21" y="52"/>
                    <a:pt x="23" y="68"/>
                    <a:pt x="35" y="68"/>
                  </a:cubicBezTo>
                  <a:cubicBezTo>
                    <a:pt x="46" y="68"/>
                    <a:pt x="47" y="61"/>
                    <a:pt x="49" y="54"/>
                  </a:cubicBezTo>
                  <a:lnTo>
                    <a:pt x="69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8320" y="654120"/>
              <a:ext cx="320760" cy="495360"/>
            </a:xfrm>
            <a:custGeom>
              <a:avLst/>
              <a:gdLst/>
              <a:ahLst/>
              <a:rect l="l" t="t" r="r" b="b"/>
              <a:pathLst>
                <a:path w="74" h="114">
                  <a:moveTo>
                    <a:pt x="50" y="87"/>
                  </a:moveTo>
                  <a:cubicBezTo>
                    <a:pt x="46" y="92"/>
                    <a:pt x="42" y="96"/>
                    <a:pt x="36" y="96"/>
                  </a:cubicBezTo>
                  <a:cubicBezTo>
                    <a:pt x="23" y="96"/>
                    <a:pt x="21" y="80"/>
                    <a:pt x="21" y="71"/>
                  </a:cubicBezTo>
                  <a:cubicBezTo>
                    <a:pt x="21" y="62"/>
                    <a:pt x="24" y="47"/>
                    <a:pt x="35" y="47"/>
                  </a:cubicBezTo>
                  <a:cubicBezTo>
                    <a:pt x="42" y="47"/>
                    <a:pt x="46" y="51"/>
                    <a:pt x="50" y="56"/>
                  </a:cubicBezTo>
                  <a:lnTo>
                    <a:pt x="50" y="87"/>
                  </a:lnTo>
                  <a:close/>
                  <a:moveTo>
                    <a:pt x="71" y="98"/>
                  </a:moveTo>
                  <a:cubicBezTo>
                    <a:pt x="71" y="0"/>
                    <a:pt x="71" y="0"/>
                    <a:pt x="71" y="0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50" y="40"/>
                    <a:pt x="50" y="40"/>
                    <a:pt x="50" y="40"/>
                  </a:cubicBezTo>
                  <a:cubicBezTo>
                    <a:pt x="44" y="34"/>
                    <a:pt x="38" y="30"/>
                    <a:pt x="30" y="30"/>
                  </a:cubicBezTo>
                  <a:cubicBezTo>
                    <a:pt x="18" y="30"/>
                    <a:pt x="0" y="40"/>
                    <a:pt x="0" y="70"/>
                  </a:cubicBezTo>
                  <a:cubicBezTo>
                    <a:pt x="0" y="104"/>
                    <a:pt x="15" y="114"/>
                    <a:pt x="32" y="114"/>
                  </a:cubicBezTo>
                  <a:cubicBezTo>
                    <a:pt x="40" y="114"/>
                    <a:pt x="45" y="111"/>
                    <a:pt x="52" y="105"/>
                  </a:cubicBezTo>
                  <a:cubicBezTo>
                    <a:pt x="52" y="105"/>
                    <a:pt x="52" y="109"/>
                    <a:pt x="54" y="112"/>
                  </a:cubicBezTo>
                  <a:cubicBezTo>
                    <a:pt x="74" y="112"/>
                    <a:pt x="74" y="112"/>
                    <a:pt x="74" y="112"/>
                  </a:cubicBezTo>
                  <a:cubicBezTo>
                    <a:pt x="72" y="108"/>
                    <a:pt x="71" y="103"/>
                    <a:pt x="71" y="9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"/>
          <p:cNvSpPr/>
          <p:nvPr/>
        </p:nvSpPr>
        <p:spPr>
          <a:xfrm>
            <a:off x="882720" y="3581280"/>
            <a:ext cx="7794720" cy="14219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"/>
          <p:cNvSpPr/>
          <p:nvPr/>
        </p:nvSpPr>
        <p:spPr>
          <a:xfrm>
            <a:off x="9255240" y="3581280"/>
            <a:ext cx="7794360" cy="14219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"/>
          <p:cNvSpPr/>
          <p:nvPr/>
        </p:nvSpPr>
        <p:spPr>
          <a:xfrm>
            <a:off x="17627760" y="3581280"/>
            <a:ext cx="7794360" cy="14219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/>
          <p:nvPr/>
        </p:nvSpPr>
        <p:spPr>
          <a:xfrm>
            <a:off x="25999920" y="3581280"/>
            <a:ext cx="7794720" cy="14219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"/>
          <p:cNvSpPr/>
          <p:nvPr/>
        </p:nvSpPr>
        <p:spPr>
          <a:xfrm>
            <a:off x="34374240" y="3581280"/>
            <a:ext cx="7794360" cy="14219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49560" y="728640"/>
            <a:ext cx="3867768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296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7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2149560" y="4280040"/>
            <a:ext cx="38677680" cy="120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723960" indent="-723960">
              <a:lnSpc>
                <a:spcPct val="97000"/>
              </a:lnSpc>
              <a:spcBef>
                <a:spcPts val="4374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  <a:p>
            <a:pPr lvl="1" marL="1800360" indent="-714600">
              <a:lnSpc>
                <a:spcPct val="97000"/>
              </a:lnSpc>
              <a:spcBef>
                <a:spcPts val="4374"/>
              </a:spcBef>
              <a:buClr>
                <a:srgbClr val="000000"/>
              </a:buClr>
              <a:buSzPct val="120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  <a:p>
            <a:pPr lvl="2" marL="2736720" indent="-573120">
              <a:lnSpc>
                <a:spcPct val="97000"/>
              </a:lnSpc>
              <a:spcBef>
                <a:spcPts val="4374"/>
              </a:spcBef>
              <a:buClr>
                <a:srgbClr val="000000"/>
              </a:buClr>
              <a:buSzPct val="120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  <a:p>
            <a:pPr lvl="3" marL="3824280" indent="-568440">
              <a:lnSpc>
                <a:spcPct val="97000"/>
              </a:lnSpc>
              <a:spcBef>
                <a:spcPts val="4374"/>
              </a:spcBef>
              <a:buClr>
                <a:srgbClr val="000000"/>
              </a:buClr>
              <a:buSzPct val="120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  <a:p>
            <a:pPr lvl="4" marL="5068800" indent="-709560">
              <a:lnSpc>
                <a:spcPct val="97000"/>
              </a:lnSpc>
              <a:spcBef>
                <a:spcPts val="4374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  <a:p>
            <a:pPr lvl="5" marL="5068800" indent="-709560">
              <a:lnSpc>
                <a:spcPct val="97000"/>
              </a:lnSpc>
              <a:spcBef>
                <a:spcPts val="4374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  <a:p>
            <a:pPr lvl="6" marL="5068800" indent="-709560">
              <a:lnSpc>
                <a:spcPct val="97000"/>
              </a:lnSpc>
              <a:spcBef>
                <a:spcPts val="4374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68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581280" y="6908760"/>
            <a:ext cx="36888840" cy="39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0160" rIns="290160" tIns="145080" bIns="14508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  <a:tab algn="l" pos="18097560"/>
                <a:tab algn="l" pos="18821520"/>
                <a:tab algn="l" pos="19545480"/>
                <a:tab algn="l" pos="20269080"/>
                <a:tab algn="l" pos="20993040"/>
                <a:tab algn="l" pos="21717000"/>
                <a:tab algn="l" pos="22440960"/>
                <a:tab algn="l" pos="23164920"/>
                <a:tab algn="l" pos="23888880"/>
                <a:tab algn="l" pos="24612480"/>
                <a:tab algn="l" pos="25336440"/>
                <a:tab algn="l" pos="26060400"/>
                <a:tab algn="l" pos="26784360"/>
                <a:tab algn="l" pos="27508320"/>
                <a:tab algn="l" pos="28232280"/>
                <a:tab algn="l" pos="28955880"/>
                <a:tab algn="l" pos="29679840"/>
                <a:tab algn="l" pos="30403800"/>
                <a:tab algn="l" pos="31127760"/>
                <a:tab algn="l" pos="31851720"/>
                <a:tab algn="l" pos="32575680"/>
                <a:tab algn="l" pos="33299280"/>
                <a:tab algn="l" pos="34023240"/>
                <a:tab algn="l" pos="34747200"/>
                <a:tab algn="l" pos="35471160"/>
                <a:tab algn="l" pos="36195120"/>
              </a:tabLst>
            </a:pPr>
            <a:r>
              <a:rPr b="0" lang="en-GB" sz="12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itle of Presentation </a:t>
            </a:r>
            <a:br>
              <a:rPr sz="12100"/>
            </a:br>
            <a:r>
              <a:rPr b="0" lang="en-GB" sz="12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rial Regular 38pt</a:t>
            </a: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29080" y="13614480"/>
            <a:ext cx="33604200" cy="24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0160" rIns="290160" tIns="145080" bIns="14508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  <a:tab algn="l" pos="18097560"/>
                <a:tab algn="l" pos="18821520"/>
                <a:tab algn="l" pos="19545480"/>
                <a:tab algn="l" pos="20269080"/>
                <a:tab algn="l" pos="20993040"/>
                <a:tab algn="l" pos="21717000"/>
                <a:tab algn="l" pos="22440960"/>
                <a:tab algn="l" pos="23164920"/>
                <a:tab algn="l" pos="23888880"/>
                <a:tab algn="l" pos="24612480"/>
                <a:tab algn="l" pos="25336440"/>
                <a:tab algn="l" pos="26060400"/>
                <a:tab algn="l" pos="26784360"/>
                <a:tab algn="l" pos="27508320"/>
                <a:tab algn="l" pos="28232280"/>
                <a:tab algn="l" pos="28955880"/>
                <a:tab algn="l" pos="29679840"/>
                <a:tab algn="l" pos="30403800"/>
                <a:tab algn="l" pos="31127760"/>
                <a:tab algn="l" pos="31851720"/>
                <a:tab algn="l" pos="32575680"/>
                <a:tab algn="l" pos="3329928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ate 15p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  <a:tab algn="l" pos="18097560"/>
                <a:tab algn="l" pos="18821520"/>
                <a:tab algn="l" pos="19545480"/>
                <a:tab algn="l" pos="20269080"/>
                <a:tab algn="l" pos="20993040"/>
                <a:tab algn="l" pos="21717000"/>
                <a:tab algn="l" pos="22440960"/>
                <a:tab algn="l" pos="23164920"/>
                <a:tab algn="l" pos="23888880"/>
                <a:tab algn="l" pos="24612480"/>
                <a:tab algn="l" pos="25336440"/>
                <a:tab algn="l" pos="26060400"/>
                <a:tab algn="l" pos="26784360"/>
                <a:tab algn="l" pos="27508320"/>
                <a:tab algn="l" pos="28232280"/>
                <a:tab algn="l" pos="28955880"/>
                <a:tab algn="l" pos="29679840"/>
                <a:tab algn="l" pos="30403800"/>
                <a:tab algn="l" pos="31127760"/>
                <a:tab algn="l" pos="31851720"/>
                <a:tab algn="l" pos="32575680"/>
                <a:tab algn="l" pos="3329928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uthor Name 15p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  <a:tab algn="l" pos="18097560"/>
                <a:tab algn="l" pos="18821520"/>
                <a:tab algn="l" pos="19545480"/>
                <a:tab algn="l" pos="20269080"/>
                <a:tab algn="l" pos="20993040"/>
                <a:tab algn="l" pos="21717000"/>
                <a:tab algn="l" pos="22440960"/>
                <a:tab algn="l" pos="23164920"/>
                <a:tab algn="l" pos="23888880"/>
                <a:tab algn="l" pos="24612480"/>
                <a:tab algn="l" pos="25336440"/>
                <a:tab algn="l" pos="26060400"/>
                <a:tab algn="l" pos="26784360"/>
                <a:tab algn="l" pos="27508320"/>
                <a:tab algn="l" pos="28232280"/>
                <a:tab algn="l" pos="28955880"/>
                <a:tab algn="l" pos="29679840"/>
                <a:tab algn="l" pos="30403800"/>
                <a:tab algn="l" pos="31127760"/>
                <a:tab algn="l" pos="31851720"/>
                <a:tab algn="l" pos="32575680"/>
                <a:tab algn="l" pos="3329928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uthor Title 15p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938760" y="3027240"/>
            <a:ext cx="13968360" cy="1239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3.png"/><Relationship Id="rId17" Type="http://schemas.openxmlformats.org/officeDocument/2006/relationships/image" Target="../media/image15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68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28879920" y="6045120"/>
            <a:ext cx="2290680" cy="1387440"/>
            <a:chOff x="28879920" y="6045120"/>
            <a:chExt cx="2290680" cy="1387440"/>
          </a:xfrm>
        </p:grpSpPr>
        <p:pic>
          <p:nvPicPr>
            <p:cNvPr id="110" name="" descr=""/>
            <p:cNvPicPr/>
            <p:nvPr/>
          </p:nvPicPr>
          <p:blipFill>
            <a:blip r:embed="rId1"/>
            <a:stretch/>
          </p:blipFill>
          <p:spPr>
            <a:xfrm>
              <a:off x="28879920" y="6045120"/>
              <a:ext cx="2290680" cy="13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9337120" y="6869160"/>
              <a:ext cx="143496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000" spc="-1" strike="noStrike">
                  <a:solidFill>
                    <a:srgbClr val="ffff00"/>
                  </a:solidFill>
                  <a:latin typeface="Arial"/>
                </a:rPr>
                <a:t>Ontology &amp; Knowledge Ba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34707600" y="3948120"/>
            <a:ext cx="7140600" cy="755640"/>
          </a:xfrm>
          <a:prstGeom prst="roundRect">
            <a:avLst>
              <a:gd name="adj" fmla="val 16667"/>
            </a:avLst>
          </a:prstGeom>
          <a:solidFill>
            <a:srgbClr val="0768a9"/>
          </a:solidFill>
          <a:ln w="63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6295480" y="3948120"/>
            <a:ext cx="7140600" cy="755640"/>
          </a:xfrm>
          <a:prstGeom prst="roundRect">
            <a:avLst>
              <a:gd name="adj" fmla="val 16667"/>
            </a:avLst>
          </a:prstGeom>
          <a:solidFill>
            <a:srgbClr val="0768a9"/>
          </a:solidFill>
          <a:ln w="63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018000" y="3948120"/>
            <a:ext cx="7140600" cy="755640"/>
          </a:xfrm>
          <a:prstGeom prst="roundRect">
            <a:avLst>
              <a:gd name="adj" fmla="val 16667"/>
            </a:avLst>
          </a:prstGeom>
          <a:solidFill>
            <a:srgbClr val="0768a9"/>
          </a:solidFill>
          <a:ln w="63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617040" y="3948120"/>
            <a:ext cx="7140600" cy="755640"/>
          </a:xfrm>
          <a:prstGeom prst="roundRect">
            <a:avLst>
              <a:gd name="adj" fmla="val 16667"/>
            </a:avLst>
          </a:prstGeom>
          <a:solidFill>
            <a:srgbClr val="0768a9"/>
          </a:solidFill>
          <a:ln w="63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513560" y="555120"/>
            <a:ext cx="28364040" cy="26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920" rIns="385920" tIns="192960" bIns="192960" anchor="ctr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  <a:tab algn="l" pos="18097560"/>
                <a:tab algn="l" pos="18821520"/>
                <a:tab algn="l" pos="19545480"/>
                <a:tab algn="l" pos="20269080"/>
                <a:tab algn="l" pos="20993040"/>
                <a:tab algn="l" pos="21717000"/>
                <a:tab algn="l" pos="22440960"/>
                <a:tab algn="l" pos="23164920"/>
                <a:tab algn="l" pos="23888880"/>
                <a:tab algn="l" pos="24612480"/>
                <a:tab algn="l" pos="25336440"/>
                <a:tab algn="l" pos="26060400"/>
                <a:tab algn="l" pos="26784360"/>
                <a:tab algn="l" pos="27508320"/>
                <a:tab algn="l" pos="2823228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"/>
                <a:ea typeface="Times New Roman"/>
              </a:rPr>
              <a:t>Semantic Integration of Clinical Data for Outcomes Research and Report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  <a:tab algn="l" pos="18097560"/>
                <a:tab algn="l" pos="18821520"/>
                <a:tab algn="l" pos="19545480"/>
                <a:tab algn="l" pos="20269080"/>
                <a:tab algn="l" pos="20993040"/>
                <a:tab algn="l" pos="21717000"/>
                <a:tab algn="l" pos="22440960"/>
                <a:tab algn="l" pos="23164920"/>
                <a:tab algn="l" pos="23888880"/>
                <a:tab algn="l" pos="24612480"/>
                <a:tab algn="l" pos="25336440"/>
                <a:tab algn="l" pos="26060400"/>
                <a:tab algn="l" pos="26784360"/>
                <a:tab algn="l" pos="27508320"/>
                <a:tab algn="l" pos="28232280"/>
              </a:tabLst>
            </a:pPr>
            <a:r>
              <a:rPr b="1" i="1" lang="en-GB" sz="4800" spc="-1" strike="noStrike">
                <a:solidFill>
                  <a:srgbClr val="ffffff"/>
                </a:solidFill>
                <a:latin typeface="Arial"/>
              </a:rPr>
              <a:t>Christopher Pierce, Chimezie Ogbuji, Sivaram Arabandi and John Clar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7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  <a:tab algn="l" pos="18097560"/>
                <a:tab algn="l" pos="18821520"/>
                <a:tab algn="l" pos="19545480"/>
                <a:tab algn="l" pos="20269080"/>
                <a:tab algn="l" pos="20993040"/>
                <a:tab algn="l" pos="21717000"/>
                <a:tab algn="l" pos="22440960"/>
                <a:tab algn="l" pos="23164920"/>
                <a:tab algn="l" pos="23888880"/>
                <a:tab algn="l" pos="24612480"/>
                <a:tab algn="l" pos="25336440"/>
                <a:tab algn="l" pos="26060400"/>
                <a:tab algn="l" pos="26784360"/>
                <a:tab algn="l" pos="27508320"/>
                <a:tab algn="l" pos="2823228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Heart and Vascular Institute, Cleveland Clin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71440" y="3952800"/>
            <a:ext cx="7140600" cy="755640"/>
          </a:xfrm>
          <a:prstGeom prst="roundRect">
            <a:avLst>
              <a:gd name="adj" fmla="val 16667"/>
            </a:avLst>
          </a:prstGeom>
          <a:solidFill>
            <a:srgbClr val="0768a9"/>
          </a:solidFill>
          <a:ln w="63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07960" y="4071960"/>
            <a:ext cx="6670800" cy="5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anchor="t">
            <a:spAutoFit/>
          </a:bodyPr>
          <a:p>
            <a:pPr algn="ctr">
              <a:lnSpc>
                <a:spcPct val="98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885240" y="4048200"/>
            <a:ext cx="66042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anchor="t">
            <a:noAutofit/>
          </a:bodyPr>
          <a:p>
            <a:pPr algn="ctr">
              <a:lnSpc>
                <a:spcPct val="98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365760" y="4067280"/>
            <a:ext cx="6399360" cy="531720"/>
          </a:xfrm>
          <a:prstGeom prst="rect">
            <a:avLst/>
          </a:prstGeom>
          <a:solidFill>
            <a:srgbClr val="0768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anchor="t">
            <a:noAutofit/>
          </a:bodyPr>
          <a:p>
            <a:pPr algn="ctr">
              <a:lnSpc>
                <a:spcPct val="98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ata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6708040" y="4067280"/>
            <a:ext cx="6216840" cy="506160"/>
          </a:xfrm>
          <a:prstGeom prst="rect">
            <a:avLst/>
          </a:prstGeom>
          <a:solidFill>
            <a:srgbClr val="0768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anchor="t">
            <a:noAutofit/>
          </a:bodyPr>
          <a:p>
            <a:pPr algn="ctr">
              <a:lnSpc>
                <a:spcPct val="98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Querying and Repor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805880" y="4076640"/>
            <a:ext cx="6942240" cy="523800"/>
          </a:xfrm>
          <a:prstGeom prst="rect">
            <a:avLst/>
          </a:prstGeom>
          <a:solidFill>
            <a:srgbClr val="0768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anchor="t">
            <a:noAutofit/>
          </a:bodyPr>
          <a:p>
            <a:pPr algn="ctr">
              <a:lnSpc>
                <a:spcPct val="98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Applications and 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141560" y="12053880"/>
            <a:ext cx="7315200" cy="56516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075200" y="14701680"/>
            <a:ext cx="2263680" cy="9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ompletely Redund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27080" y="12111120"/>
            <a:ext cx="18511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dundant within a few Regis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27280" y="12949200"/>
            <a:ext cx="1371600" cy="533520"/>
          </a:xfrm>
          <a:prstGeom prst="line">
            <a:avLst/>
          </a:prstGeom>
          <a:ln w="57240">
            <a:solidFill>
              <a:srgbClr val="ebb7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627280" y="12949200"/>
            <a:ext cx="1295280" cy="1752480"/>
          </a:xfrm>
          <a:prstGeom prst="line">
            <a:avLst/>
          </a:prstGeom>
          <a:ln w="57240">
            <a:solidFill>
              <a:srgbClr val="ebb7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7197480" y="12625560"/>
            <a:ext cx="98280" cy="780840"/>
          </a:xfrm>
          <a:prstGeom prst="line">
            <a:avLst/>
          </a:prstGeom>
          <a:ln w="57240">
            <a:solidFill>
              <a:srgbClr val="ebb7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5749560" y="12415680"/>
            <a:ext cx="841320" cy="152640"/>
          </a:xfrm>
          <a:prstGeom prst="line">
            <a:avLst/>
          </a:prstGeom>
          <a:ln w="57240">
            <a:solidFill>
              <a:srgbClr val="ebb7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3600000">
            <a:off x="6418440" y="13731480"/>
            <a:ext cx="162720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egistry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65640" y="12477600"/>
            <a:ext cx="162720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egistry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680000">
            <a:off x="5808600" y="16631280"/>
            <a:ext cx="162720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egistry #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627280" y="12949200"/>
            <a:ext cx="2057400" cy="1295280"/>
          </a:xfrm>
          <a:prstGeom prst="line">
            <a:avLst/>
          </a:prstGeom>
          <a:ln w="57240">
            <a:solidFill>
              <a:srgbClr val="ebb7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13560" y="11806200"/>
            <a:ext cx="2822400" cy="6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ata unique to single reg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6965440" y="11700000"/>
            <a:ext cx="5432400" cy="3663720"/>
            <a:chOff x="26965440" y="11700000"/>
            <a:chExt cx="5432400" cy="3663720"/>
          </a:xfrm>
        </p:grpSpPr>
        <p:sp>
          <p:nvSpPr>
            <p:cNvPr id="136" name=""/>
            <p:cNvSpPr/>
            <p:nvPr/>
          </p:nvSpPr>
          <p:spPr>
            <a:xfrm>
              <a:off x="26965440" y="11700000"/>
              <a:ext cx="5432400" cy="3663720"/>
            </a:xfrm>
            <a:prstGeom prst="roundRect">
              <a:avLst>
                <a:gd name="adj" fmla="val 4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" descr=""/>
            <p:cNvPicPr/>
            <p:nvPr/>
          </p:nvPicPr>
          <p:blipFill>
            <a:blip r:embed="rId3"/>
            <a:stretch/>
          </p:blipFill>
          <p:spPr>
            <a:xfrm>
              <a:off x="28627560" y="11700000"/>
              <a:ext cx="3770280" cy="3663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27209880" y="12134880"/>
              <a:ext cx="1603080" cy="1579680"/>
              <a:chOff x="27209880" y="12134880"/>
              <a:chExt cx="1603080" cy="1579680"/>
            </a:xfrm>
          </p:grpSpPr>
          <p:pic>
            <p:nvPicPr>
              <p:cNvPr id="13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7209880" y="12558600"/>
                <a:ext cx="1137960" cy="115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"/>
              <p:cNvSpPr/>
              <p:nvPr/>
            </p:nvSpPr>
            <p:spPr>
              <a:xfrm>
                <a:off x="27287640" y="13069800"/>
                <a:ext cx="1295280" cy="39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anchor="t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GB" sz="2000" spc="-1" strike="noStrike">
                    <a:solidFill>
                      <a:srgbClr val="ffffff"/>
                    </a:solidFill>
                    <a:latin typeface="Calibri"/>
                  </a:rPr>
                  <a:t>Investi-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7760680" y="12134880"/>
                <a:ext cx="1052280" cy="500040"/>
              </a:xfrm>
              <a:custGeom>
                <a:avLst/>
                <a:gdLst>
                  <a:gd name="textAreaLeft" fmla="*/ 0 w 1052280"/>
                  <a:gd name="textAreaRight" fmla="*/ 1052640 w 1052280"/>
                  <a:gd name="textAreaTop" fmla="*/ 0 h 500040"/>
                  <a:gd name="textAreaBottom" fmla="*/ 500400 h 500040"/>
                </a:gdLst>
                <a:ahLst/>
                <a:rect l="textAreaLeft" t="textAreaTop" r="textAreaRight" b="textAreaBottom"/>
                <a:pathLst>
                  <a:path w="1051560" h="652780">
                    <a:moveTo>
                      <a:pt x="0" y="652780"/>
                    </a:moveTo>
                    <a:cubicBezTo>
                      <a:pt x="95250" y="430530"/>
                      <a:pt x="190500" y="208280"/>
                      <a:pt x="365760" y="104140"/>
                    </a:cubicBezTo>
                    <a:cubicBezTo>
                      <a:pt x="541020" y="0"/>
                      <a:pt x="796290" y="13970"/>
                      <a:pt x="1051560" y="27940"/>
                    </a:cubicBezTo>
                  </a:path>
                </a:pathLst>
              </a:custGeom>
              <a:noFill/>
              <a:ln w="38160">
                <a:solidFill>
                  <a:srgbClr val="98480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7287640" y="13301640"/>
                <a:ext cx="1295280" cy="39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anchor="t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GB" sz="2000" spc="-1" strike="noStrike">
                    <a:solidFill>
                      <a:srgbClr val="ffffff"/>
                    </a:solidFill>
                    <a:latin typeface="Calibri"/>
                  </a:rPr>
                  <a:t>gato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3" name=""/>
          <p:cNvSpPr/>
          <p:nvPr/>
        </p:nvSpPr>
        <p:spPr>
          <a:xfrm>
            <a:off x="30313440" y="9248760"/>
            <a:ext cx="1676160" cy="1066680"/>
          </a:xfrm>
          <a:prstGeom prst="leftArrow">
            <a:avLst>
              <a:gd name="adj1" fmla="val 50000"/>
              <a:gd name="adj2" fmla="val 3928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ffff66"/>
                </a:solidFill>
                <a:latin typeface="Arial"/>
              </a:rPr>
              <a:t>Refin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ffff66"/>
                </a:solidFill>
                <a:latin typeface="Arial"/>
              </a:rPr>
              <a:t>Conver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ffff66"/>
                </a:solidFill>
                <a:latin typeface="Arial"/>
              </a:rPr>
              <a:t>Integ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6212680" y="8793000"/>
            <a:ext cx="4187880" cy="2055960"/>
            <a:chOff x="26212680" y="8793000"/>
            <a:chExt cx="4187880" cy="2055960"/>
          </a:xfrm>
        </p:grpSpPr>
        <p:pic>
          <p:nvPicPr>
            <p:cNvPr id="145" name="" descr=""/>
            <p:cNvPicPr/>
            <p:nvPr/>
          </p:nvPicPr>
          <p:blipFill>
            <a:blip r:embed="rId5"/>
            <a:stretch/>
          </p:blipFill>
          <p:spPr>
            <a:xfrm>
              <a:off x="26212680" y="8793000"/>
              <a:ext cx="4187880" cy="205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26289000" y="8869320"/>
              <a:ext cx="4032360" cy="19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e8e7ed"/>
                  </a:solidFill>
                  <a:latin typeface="Arial"/>
                </a:rPr>
                <a:t>CCF SemanticDB</a:t>
              </a:r>
              <a:r>
                <a:rPr b="1" lang="en-GB" sz="1400" spc="-1" strike="noStrike">
                  <a:solidFill>
                    <a:srgbClr val="e8e7ed"/>
                  </a:solidFill>
                  <a:latin typeface="Arial"/>
                  <a:ea typeface="Arial"/>
                </a:rPr>
                <a:t>™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31602240" y="5495760"/>
            <a:ext cx="1960560" cy="2630520"/>
            <a:chOff x="31602240" y="5495760"/>
            <a:chExt cx="1960560" cy="2630520"/>
          </a:xfrm>
        </p:grpSpPr>
        <p:pic>
          <p:nvPicPr>
            <p:cNvPr id="148" name="" descr=""/>
            <p:cNvPicPr/>
            <p:nvPr/>
          </p:nvPicPr>
          <p:blipFill>
            <a:blip r:embed="rId6"/>
            <a:stretch/>
          </p:blipFill>
          <p:spPr>
            <a:xfrm>
              <a:off x="31602240" y="5495760"/>
              <a:ext cx="1960560" cy="26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31629240" y="5522760"/>
              <a:ext cx="1913040" cy="258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31937400" y="5602320"/>
            <a:ext cx="1271520" cy="4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ffff00"/>
                </a:solidFill>
                <a:latin typeface="Tahoma"/>
              </a:rPr>
              <a:t>Reas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ffff00"/>
                </a:solidFill>
                <a:latin typeface="Tahoma"/>
              </a:rPr>
              <a:t>Mo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32241960" y="6059520"/>
            <a:ext cx="746280" cy="1165320"/>
            <a:chOff x="32241960" y="6059520"/>
            <a:chExt cx="746280" cy="1165320"/>
          </a:xfrm>
        </p:grpSpPr>
        <p:sp>
          <p:nvSpPr>
            <p:cNvPr id="152" name=""/>
            <p:cNvSpPr/>
            <p:nvPr/>
          </p:nvSpPr>
          <p:spPr>
            <a:xfrm flipH="1">
              <a:off x="32443200" y="6303960"/>
              <a:ext cx="32724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32469120" y="6988320"/>
              <a:ext cx="32688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" name="" descr=""/>
            <p:cNvPicPr/>
            <p:nvPr/>
          </p:nvPicPr>
          <p:blipFill>
            <a:blip r:embed="rId7"/>
            <a:stretch/>
          </p:blipFill>
          <p:spPr>
            <a:xfrm>
              <a:off x="32543640" y="6059520"/>
              <a:ext cx="444600" cy="47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" descr=""/>
            <p:cNvPicPr/>
            <p:nvPr/>
          </p:nvPicPr>
          <p:blipFill>
            <a:blip r:embed="rId8"/>
            <a:stretch/>
          </p:blipFill>
          <p:spPr>
            <a:xfrm>
              <a:off x="32543640" y="6400800"/>
              <a:ext cx="44460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9"/>
            <a:stretch/>
          </p:blipFill>
          <p:spPr>
            <a:xfrm>
              <a:off x="32543640" y="6742080"/>
              <a:ext cx="444600" cy="4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32464440" y="6284880"/>
              <a:ext cx="1440" cy="76536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8" name="" descr=""/>
            <p:cNvPicPr/>
            <p:nvPr/>
          </p:nvPicPr>
          <p:blipFill>
            <a:blip r:embed="rId10"/>
            <a:stretch/>
          </p:blipFill>
          <p:spPr>
            <a:xfrm>
              <a:off x="32241960" y="6059520"/>
              <a:ext cx="441360" cy="47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11"/>
            <a:stretch/>
          </p:blipFill>
          <p:spPr>
            <a:xfrm>
              <a:off x="32241960" y="6400800"/>
              <a:ext cx="44136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" descr=""/>
            <p:cNvPicPr/>
            <p:nvPr/>
          </p:nvPicPr>
          <p:blipFill>
            <a:blip r:embed="rId12"/>
            <a:stretch/>
          </p:blipFill>
          <p:spPr>
            <a:xfrm>
              <a:off x="32241960" y="6742080"/>
              <a:ext cx="441360" cy="4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32335920" y="6164280"/>
              <a:ext cx="247680" cy="268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645520" y="6164280"/>
              <a:ext cx="247320" cy="268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335920" y="6504120"/>
              <a:ext cx="247680" cy="268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645520" y="6504120"/>
              <a:ext cx="247320" cy="268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2335920" y="6845400"/>
              <a:ext cx="247680" cy="268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2645520" y="6845400"/>
              <a:ext cx="247320" cy="268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28027440" y="10022040"/>
            <a:ext cx="1981080" cy="610920"/>
          </a:xfrm>
          <a:prstGeom prst="flowChartMagneticDisk">
            <a:avLst/>
          </a:prstGeom>
          <a:gradFill rotWithShape="0">
            <a:gsLst>
              <a:gs pos="0">
                <a:srgbClr val="eae9ef"/>
              </a:gs>
              <a:gs pos="100000">
                <a:srgbClr val="5a92e4"/>
              </a:gs>
            </a:gsLst>
            <a:lin ang="13500000"/>
          </a:gradFill>
          <a:ln w="19080">
            <a:solidFill>
              <a:srgbClr val="6663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CF SQL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027440" y="9550440"/>
            <a:ext cx="1981080" cy="625320"/>
          </a:xfrm>
          <a:prstGeom prst="flowChartMagneticDisk">
            <a:avLst/>
          </a:prstGeom>
          <a:gradFill rotWithShape="0">
            <a:gsLst>
              <a:gs pos="0">
                <a:srgbClr val="dee6f7"/>
              </a:gs>
              <a:gs pos="100000">
                <a:srgbClr val="8cadea"/>
              </a:gs>
            </a:gsLst>
            <a:lin ang="13500000"/>
          </a:gradFill>
          <a:ln w="19080">
            <a:solidFill>
              <a:srgbClr val="6663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DF Triple-s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027440" y="9107640"/>
            <a:ext cx="1981080" cy="610920"/>
          </a:xfrm>
          <a:prstGeom prst="flowChartMagneticDisk">
            <a:avLst/>
          </a:prstGeom>
          <a:gradFill rotWithShape="0">
            <a:gsLst>
              <a:gs pos="0">
                <a:srgbClr val="ffebfa"/>
              </a:gs>
              <a:gs pos="100000">
                <a:srgbClr val="0c41b8"/>
              </a:gs>
            </a:gsLst>
            <a:lin ang="13500000"/>
          </a:gradFill>
          <a:ln w="19080">
            <a:solidFill>
              <a:srgbClr val="6663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PARQL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1583160" y="7531200"/>
            <a:ext cx="2006640" cy="707760"/>
            <a:chOff x="31583160" y="7531200"/>
            <a:chExt cx="2006640" cy="707760"/>
          </a:xfrm>
        </p:grpSpPr>
        <p:pic>
          <p:nvPicPr>
            <p:cNvPr id="171" name="" descr=""/>
            <p:cNvPicPr/>
            <p:nvPr/>
          </p:nvPicPr>
          <p:blipFill>
            <a:blip r:embed="rId13"/>
            <a:stretch/>
          </p:blipFill>
          <p:spPr>
            <a:xfrm>
              <a:off x="31583160" y="7531200"/>
              <a:ext cx="2006640" cy="70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31694400" y="7645320"/>
              <a:ext cx="17766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Semantic Knowledge-Source Integ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26322480" y="5934240"/>
            <a:ext cx="1941480" cy="1180800"/>
            <a:chOff x="26322480" y="5934240"/>
            <a:chExt cx="1941480" cy="1180800"/>
          </a:xfrm>
        </p:grpSpPr>
        <p:pic>
          <p:nvPicPr>
            <p:cNvPr id="174" name="" descr=""/>
            <p:cNvPicPr/>
            <p:nvPr/>
          </p:nvPicPr>
          <p:blipFill>
            <a:blip r:embed="rId14"/>
            <a:stretch/>
          </p:blipFill>
          <p:spPr>
            <a:xfrm>
              <a:off x="26322480" y="5934240"/>
              <a:ext cx="1941480" cy="118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26438400" y="6045120"/>
              <a:ext cx="170784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Query Formul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26322480" y="7226280"/>
            <a:ext cx="1941480" cy="1181160"/>
            <a:chOff x="26322480" y="7226280"/>
            <a:chExt cx="1941480" cy="1181160"/>
          </a:xfrm>
        </p:grpSpPr>
        <p:pic>
          <p:nvPicPr>
            <p:cNvPr id="177" name="" descr=""/>
            <p:cNvPicPr/>
            <p:nvPr/>
          </p:nvPicPr>
          <p:blipFill>
            <a:blip r:embed="rId15"/>
            <a:stretch/>
          </p:blipFill>
          <p:spPr>
            <a:xfrm>
              <a:off x="26322480" y="7226280"/>
              <a:ext cx="1941480" cy="11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26438400" y="7340760"/>
              <a:ext cx="1707840" cy="95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nswer</a:t>
              </a:r>
              <a:br>
                <a:rPr sz="1800"/>
              </a:b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Explo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" name="" descr=""/>
          <p:cNvPicPr/>
          <p:nvPr/>
        </p:nvPicPr>
        <p:blipFill>
          <a:blip r:embed="rId16"/>
          <a:stretch/>
        </p:blipFill>
        <p:spPr>
          <a:xfrm>
            <a:off x="31227840" y="8794800"/>
            <a:ext cx="2361960" cy="18255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1913640" y="9477360"/>
            <a:ext cx="12952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Reg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32521680" y="8158320"/>
            <a:ext cx="7920" cy="690480"/>
          </a:xfrm>
          <a:prstGeom prst="line">
            <a:avLst/>
          </a:prstGeom>
          <a:ln w="38160">
            <a:solidFill>
              <a:srgbClr val="ebb7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8116640" y="5027760"/>
            <a:ext cx="7051680" cy="30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manticDB Supports Three Modes of Data Colle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lurp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programmatic import of legac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eed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push and pull data feeds from othe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bstrac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auto-generated forms for manual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7"/>
          <a:stretch/>
        </p:blipFill>
        <p:spPr>
          <a:xfrm>
            <a:off x="18388080" y="8639280"/>
            <a:ext cx="6296040" cy="862956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184" name=""/>
          <p:cNvSpPr/>
          <p:nvPr/>
        </p:nvSpPr>
        <p:spPr>
          <a:xfrm>
            <a:off x="1231920" y="5064120"/>
            <a:ext cx="7112160" cy="65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urrent Data Management Challen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ragmented &amp; Redundant Data Collection and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7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DejaVu Sans"/>
              </a:rPr>
              <a:t>Due to poor database exte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7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DejaVu Sans"/>
              </a:rPr>
              <a:t>High data collection and integration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expressive Model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7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DejaVu Sans"/>
              </a:rPr>
              <a:t>Data structures contain implicit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7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DejaVu Sans"/>
              </a:rPr>
              <a:t>Inadequate for modeling medi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7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DejaVu Sans"/>
              </a:rPr>
              <a:t>No native support for inference &amp; intelligent ag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mbiguous &amp; Idiosyncratic 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7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DejaVu Sans"/>
              </a:rPr>
              <a:t>Meanings often poorly docum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7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DejaVu Sans"/>
              </a:rPr>
              <a:t>Semantic conflicts ab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7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325360" y="5027760"/>
            <a:ext cx="6554880" cy="5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manticDB Query Infrastruc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6325360" y="11242800"/>
            <a:ext cx="5448600" cy="5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atural Language Query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6325360" y="15722640"/>
            <a:ext cx="7029720" cy="17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ata Export &amp; Report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I access to RDF data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grammatic generation of standard export modules and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744120" y="5027760"/>
            <a:ext cx="6915240" cy="45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mantic Data Management Vi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tensib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accept any kind of data without refactoring of data s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utomat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model and metadata-driv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pressi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formal knowledge representation with transforms between KR dial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ccessib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highly distribu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alab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handles enterprise-scale data management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anda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based on emerging W3C standards (XML,RDF, OWL, GRDDL, etc.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30359160" y="8163000"/>
            <a:ext cx="1231560" cy="695160"/>
          </a:xfrm>
          <a:prstGeom prst="line">
            <a:avLst/>
          </a:prstGeom>
          <a:ln w="38160">
            <a:solidFill>
              <a:srgbClr val="ebb7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0902040" y="6829560"/>
            <a:ext cx="688680" cy="1440"/>
          </a:xfrm>
          <a:prstGeom prst="line">
            <a:avLst/>
          </a:prstGeom>
          <a:ln w="38160">
            <a:solidFill>
              <a:srgbClr val="ebb7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613480" y="7229520"/>
            <a:ext cx="1800" cy="352440"/>
          </a:xfrm>
          <a:prstGeom prst="line">
            <a:avLst/>
          </a:prstGeom>
          <a:ln w="25560">
            <a:solidFill>
              <a:srgbClr val="ebb7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28206720" y="6474960"/>
            <a:ext cx="912960" cy="389160"/>
          </a:xfrm>
          <a:prstGeom prst="line">
            <a:avLst/>
          </a:prstGeom>
          <a:ln w="38160">
            <a:solidFill>
              <a:srgbClr val="ebb7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28192320" y="7253280"/>
            <a:ext cx="884160" cy="528480"/>
          </a:xfrm>
          <a:prstGeom prst="line">
            <a:avLst/>
          </a:prstGeom>
          <a:ln w="38160">
            <a:solidFill>
              <a:srgbClr val="ebb7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5050320" y="5029200"/>
            <a:ext cx="6554880" cy="31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747200" y="5162400"/>
            <a:ext cx="6858000" cy="85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800" spc="-1" strike="noStrike" u="sng">
                <a:solidFill>
                  <a:srgbClr val="000000"/>
                </a:solidFill>
                <a:uFillTx/>
                <a:latin typeface="Arial"/>
              </a:rPr>
              <a:t>Function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800" spc="-1" strike="noStrike" u="sng">
                <a:solidFill>
                  <a:srgbClr val="000000"/>
                </a:solidFill>
                <a:uFillTx/>
                <a:latin typeface="Arial"/>
              </a:rPr>
              <a:t>Benefit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of local termi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pport for unanticipated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igh degree of system auto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igh-fidelity integration and mapping with/to external syste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urate answers to expressive qu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Terri OBrian</dc:creator>
  <dc:description/>
  <dc:language>en-US</dc:language>
  <cp:lastModifiedBy>Chimezie Ogbuji</cp:lastModifiedBy>
  <cp:revision>0</cp:revision>
  <dc:subject/>
  <dc:title>Slide 1</dc:title>
</cp:coreProperties>
</file>